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B982-A8F3-478F-80FB-395D5910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4E7-66C3-49B3-8FD5-F29C7FDB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68E2-DD29-446C-978A-DFB8AF04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2AA3-145F-4349-BCCD-928A684D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A7B8-E9AF-4968-8A14-EF84CD9F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AABB-D486-4E85-A706-8EB7ABA2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266A-3A38-4BD8-ADD8-CAF56277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7B37-F274-46E0-B697-3E559D3F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AD74-4460-4F23-8385-1F8ED792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3D47-60C6-4ADF-85BB-FC0ABB76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726B-B3E4-498A-BAD5-6B4EF957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B3F1-9BA0-447F-8B14-6BFB4F89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7235-DEB2-4103-A5E6-B9C02F23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618D-D698-4DF6-8DCF-97FA7E2C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1AE6-E51A-431E-926D-78398A5E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1180-E39B-41A3-B2B1-4AA252D72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E853-62AB-4306-B0F6-3348191F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67C61-C5CE-42A5-8A17-6A42994A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43FFE-F9CB-47E5-8E57-61758430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01B95-B476-4838-8CF3-211150D7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A36CE-F5CC-4FDA-A018-D33FF346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0823A-FBD6-40DF-83C7-84A658A5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C005-222C-47D3-8D69-B31FC43E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64704-D9A2-4654-9AA4-E2D1E3BB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B496F-D3C2-4E9A-B788-4B7B09ED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B1068-AD9B-42C5-A902-89F66351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04DED-E5E0-4BC4-9B05-7507F0D9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9DA40-0361-4FF9-BA2E-4BECD00A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4F8C2-6A77-4E0E-AA26-4109DD49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48426-919B-451A-8A85-A5AA5C6E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37900-2B73-4FE5-AE56-20DB341F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F9AF6-87BD-4D51-B07C-AB13D4F8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B4FE1-8E71-41BE-AB8B-6E9E6DBD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5C98-6CA8-44D8-BBDE-6D12AD3C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5EC87-6E78-4ACC-8C43-EE5C6486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9A374-31C0-4DAE-9361-D5F8F3E7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D3F9E-6495-4324-AA34-8BDBF2E3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B2216-4920-484F-A3C9-DB243B4F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83F65-A700-4CC1-B226-9551B081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B73D3-294C-4D23-BC2D-809D253A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2036D-4A16-4BE8-AD47-5455F85C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2E380-AD86-4BD1-B0CD-907482C8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AA0B4-081F-40BA-BEDB-6A56ABB8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9553-F05B-4C46-9B39-18323FFF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FFB3-9F80-4AB7-B919-49BF5AF8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2DF4-0381-4FB5-A7D6-6C4190FE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1A80-2FD2-4532-A2C5-676CC864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C97B-F427-4870-BB6F-3EDA4109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571F-4541-4198-9380-9044A836B67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2A76-59C6-4314-8DBA-43DE6508D50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A949-959A-4DB2-A72D-A8E2B7A1DBE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3656-EC78-40ED-9CAF-6FA5824714A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2202480" y="65412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нтегрисане академске студије медиц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324000" y="1484280"/>
            <a:ext cx="83818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ДУ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Основе вештине комуник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1547640" y="2490840"/>
            <a:ext cx="6120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</a:rPr>
              <a:t>4. наставна јединица (четврт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тицај карактеристика личности и социјалних специфичности на комуникациј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фесионални аспекти вештине комуникације у здрав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5194800" y="5943600"/>
            <a:ext cx="35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оц. др Бранимир Радманов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244440" y="1066680"/>
            <a:ext cx="8064360" cy="16700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3520" y="3352680"/>
            <a:ext cx="7772400" cy="293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висок степен толеранциј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стрпљењ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аутентичну жељу да разуме пацијент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миран тон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некада конкретну сугестију у решавању пробле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Title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82231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244440" y="530280"/>
            <a:ext cx="8070840" cy="1420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7772400" cy="3543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заузимају затворенији став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избегавају контакт очи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не дефинишу јасно своје жеље и циљев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оскудно говоре о својим тегоба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476280" y="1133640"/>
            <a:ext cx="8064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244440" y="1066680"/>
            <a:ext cx="8064360" cy="16210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316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поштовање професионалне дистанц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давање јасних и тачних одговор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не предузимати “акцију” разуверавањ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поштовање и разумевање ригидности пацијент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244440" y="755640"/>
            <a:ext cx="8491680" cy="1427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30280" y="2704680"/>
            <a:ext cx="7772400" cy="339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оставити утисак смирене и стрпљиве особе која аутентично охрабруј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давање простора за разговор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давање одговарајућих објашњења везано за страх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46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опулациј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соб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осебним потребам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штећен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лух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вид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говор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роблем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ходом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)</a:t>
            </a:r>
            <a:r>
              <a:rPr b="0" lang="sr-RS" sz="2200" spc="-1" strike="noStrike">
                <a:solidFill>
                  <a:srgbClr val="ffc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c000"/>
                </a:solidFill>
                <a:latin typeface="Calibri"/>
              </a:rPr>
              <a:t>-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често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карактериш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убјективн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доживљај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дбаченос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д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кружењ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сећањ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мање</a:t>
            </a:r>
            <a:r>
              <a:rPr b="0" lang="sr-RS" sz="2200" spc="-1" strike="noStrike">
                <a:solidFill>
                  <a:srgbClr val="ffc000"/>
                </a:solidFill>
                <a:latin typeface="Calibri"/>
              </a:rPr>
              <a:t>  вредности,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тидљивос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R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рамежљивос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некад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неповерљивос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умњичавос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сновн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остула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комуникациј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собам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из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в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груп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заснив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н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чињениц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болестан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човек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ниј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н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м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би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,,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мањ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вредан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човек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,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што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ј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чес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лучај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редин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којој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живимо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Визуелн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аперпециј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телесног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недостатк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мисл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кретањ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ажњ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н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ис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д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тран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аговорник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мож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ровоцира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вакв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реакциј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Равноправно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чешћ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комуникациј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R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оштовањ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личнос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аговорник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0" lang="sr-R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важавањ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мишљењ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веукупних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могућнос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личнос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когнитивн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пособнос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талена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фонд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знањ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из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дређених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блас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)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чинић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људ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из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в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опулациј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буд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равноправн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чланов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друштвен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заједниц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што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ћ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ружи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могућнос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з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њихов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аутентичн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амореализациј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450720" y="835200"/>
            <a:ext cx="824256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ffc000"/>
                </a:solidFill>
                <a:latin typeface="Constantia"/>
              </a:rPr>
              <a:t>Професионални аспект вештине комуникације здравствених радника подразумева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поседовање медицинских знањ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исказивање емпатиј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чување медицинске тајн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добронамернос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стрпљивос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марљивост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хуманос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тачнос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одлучнос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енергичнос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брзину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спретнос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171360" y="835200"/>
            <a:ext cx="8064720" cy="9079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30280" y="20570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c000"/>
                </a:solidFill>
                <a:latin typeface="Constantia"/>
              </a:rPr>
              <a:t>- </a:t>
            </a:r>
            <a:r>
              <a:rPr b="0" i="1" lang="sr-RS" sz="2400" spc="-1" strike="noStrike">
                <a:solidFill>
                  <a:srgbClr val="ffc000"/>
                </a:solidFill>
                <a:latin typeface="Constantia"/>
              </a:rPr>
              <a:t>анксиознос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c000"/>
                </a:solidFill>
                <a:latin typeface="Constantia"/>
              </a:rPr>
              <a:t>-</a:t>
            </a:r>
            <a:r>
              <a:rPr b="0" i="1" lang="sr-RS" sz="2400" spc="-1" strike="noStrike">
                <a:solidFill>
                  <a:srgbClr val="ffc000"/>
                </a:solidFill>
                <a:latin typeface="Constantia"/>
              </a:rPr>
              <a:t> депресиј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c000"/>
                </a:solidFill>
                <a:latin typeface="Constantia"/>
              </a:rPr>
              <a:t>-</a:t>
            </a:r>
            <a:r>
              <a:rPr b="0" i="1" lang="sr-RS" sz="2400" spc="-1" strike="noStrike">
                <a:solidFill>
                  <a:srgbClr val="ffc000"/>
                </a:solidFill>
                <a:latin typeface="Constantia"/>
              </a:rPr>
              <a:t> регресиј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c000"/>
                </a:solidFill>
                <a:latin typeface="Constantia"/>
              </a:rPr>
              <a:t>- </a:t>
            </a:r>
            <a:r>
              <a:rPr b="0" i="1" lang="sr-RS" sz="2400" spc="-1" strike="noStrike">
                <a:solidFill>
                  <a:srgbClr val="ffc000"/>
                </a:solidFill>
                <a:latin typeface="Constantia"/>
              </a:rPr>
              <a:t>агресиј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171360" y="907920"/>
            <a:ext cx="8064720" cy="14274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стварање амбијента поверења и сигурност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исказивање емпатије и хуманистичког односа према пацијент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уважавање личности пацијент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244440" y="639720"/>
            <a:ext cx="8240760" cy="11826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33520" y="23623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неупадљивост у држању, понашању и спољашњем изглед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римерено одевањ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уреднос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успостављање контакта очима са пацијентом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аутентичну заинтересованост за разговор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став мирног, стрпљивог и заинтересованог слушаоц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осмех и љубазнос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онашање које шаље поруку да пацијент и његова породица “нису сами”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29920" y="1066680"/>
            <a:ext cx="82328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Constantia"/>
              </a:rPr>
              <a:t>Светска здравствена организација дефинише тимски рад као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1" lang="en-US" sz="2400" spc="-1" strike="noStrike">
                <a:solidFill>
                  <a:srgbClr val="ffc000"/>
                </a:solidFill>
                <a:latin typeface="Constantia"/>
              </a:rPr>
              <a:t>рад више стручњака на постизању заједничког циља. Тај рад не сме бити фрагментиран и неповезан, већ добро координиран од стране руководиоца тима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.”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244440" y="1060560"/>
            <a:ext cx="8070840" cy="7617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29920" y="1980720"/>
            <a:ext cx="8232840" cy="449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c000"/>
                </a:solidFill>
                <a:uFillTx/>
                <a:latin typeface="Constantia"/>
              </a:rPr>
              <a:t>- екипни тимски хијерархијски рад </a:t>
            </a: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(нпр.рад хирушког тима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c000"/>
                </a:solidFill>
                <a:uFillTx/>
                <a:latin typeface="Constantia"/>
              </a:rPr>
              <a:t>- процесни тимски рад</a:t>
            </a: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 (нпр. интердисциплинарни тимски рад са децом ометеном у менталном развоју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c000"/>
                </a:solidFill>
                <a:uFillTx/>
                <a:latin typeface="Constantia"/>
              </a:rPr>
              <a:t>Интердисциплинарни тим </a:t>
            </a: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чине особе које свакодневно раде заједно, које у решавању постављених циљева користе знање из своје области и своје надлежности, али кроз активну сарадњу са осталим члановима тим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44440" y="1060560"/>
            <a:ext cx="8070840" cy="914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530280" y="2209320"/>
            <a:ext cx="830880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оштовање унапред дефинисаног времена тимских састанак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давање активног доприноса у изналажењу решењ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извршавање својих обавеза у предвиђеном рок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оседовање очекиваног квантума знања из своје област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оседовање искуства у тимским активности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оседовање смисла за конструктивну тимску комуникациј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44440" y="835200"/>
            <a:ext cx="8070840" cy="9871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5302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квалитетну комуникацију између чланова ти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међусобно уважавање личност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добронамернос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спремност за отворен, конструктиван и искрен дијалог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упућивање јасних, недвосмислених порука другим члановима ти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244440" y="907920"/>
            <a:ext cx="8070840" cy="9144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302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сујету појединц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отребу за привилегијом у груп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замену дефинисаног циља тежњом ка личном успех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анимозитет према колег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ривалите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било који облик опструкције тимског процес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овишен тон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244440" y="1066680"/>
            <a:ext cx="8064360" cy="16700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028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јас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разумљив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недвосмисле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44440" y="987480"/>
            <a:ext cx="8070840" cy="14209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3520" y="3047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флексибилнос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добронамернос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толеранциј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исказивање емпатиј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налажење заједничких елемената (нпр.интересовања) са пацијентом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639720" y="530280"/>
            <a:ext cx="866304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Психичк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здрав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соб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ј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н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кој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ј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1.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лишен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психијатријског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бољењ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2.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кој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м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пшт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обро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тањ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сећањ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задовољств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опствен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функционисање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(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претежн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ео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времен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3.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функциониш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вој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пун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(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л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близу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пуног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)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нтелектуалн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,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физичк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емоционалн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капацитетом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4.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пособн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бор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арађуј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колино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(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обар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адаптивн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капацитет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),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тј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.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м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обр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днос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родитељим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колегам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шир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руштвен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кружење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м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обру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јачину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Ег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што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знач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ј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змеђу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сталог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пособн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активно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чекиван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успехо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разреш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конфликтн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итуациј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(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Ј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.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Марић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,2001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0280" y="1294920"/>
            <a:ext cx="830880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Независно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од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тип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личност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болесник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сихопатологиј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коју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он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испољав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,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лекар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мор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оштоват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основн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ринцип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,,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добр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комуникациј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с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ацијентом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,,.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оштовањ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личност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ацијент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рвом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реду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одразумев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стварањ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атмосфер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оверењ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сигурност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,  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емпатију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изражавањ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аутентичн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заинтересованост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освећеност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1" descr=""/>
          <p:cNvPicPr/>
          <p:nvPr/>
        </p:nvPicPr>
        <p:blipFill>
          <a:blip r:embed="rId1"/>
          <a:stretch/>
        </p:blipFill>
        <p:spPr>
          <a:xfrm>
            <a:off x="244440" y="530280"/>
            <a:ext cx="89233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Title 1" descr=""/>
          <p:cNvPicPr/>
          <p:nvPr/>
        </p:nvPicPr>
        <p:blipFill>
          <a:blip r:embed="rId1"/>
          <a:stretch/>
        </p:blipFill>
        <p:spPr>
          <a:xfrm>
            <a:off x="244440" y="450720"/>
            <a:ext cx="8070840" cy="14274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еуфориј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раздражљивос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убрзан мисаони то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лако ступање у комуникацију са познатим и непознатим особа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често сумануте идеје о сопственој величин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захтеван став према окружењу и сл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Здравствени радник у комуникацији са </a:t>
            </a:r>
            <a:r>
              <a:rPr b="0" i="1" lang="en-US" sz="2200" spc="-1" strike="noStrike">
                <a:solidFill>
                  <a:srgbClr val="ff0000"/>
                </a:solidFill>
                <a:latin typeface="Constantia"/>
              </a:rPr>
              <a:t>маничним пацијентом</a:t>
            </a: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 ”позива га” да се смири, нудећи му својим ставом и понашањем модел стрпљиве и смирене особ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0T18:29:15Z</dcterms:created>
  <dc:creator>Korisnik</dc:creator>
  <dc:description/>
  <dc:language>en-US</dc:language>
  <cp:lastModifiedBy>Windows User</cp:lastModifiedBy>
  <dcterms:modified xsi:type="dcterms:W3CDTF">2021-01-30T15:00:50Z</dcterms:modified>
  <cp:revision>30</cp:revision>
  <dc:subject/>
  <dc:title>Slide 1</dc:title>
</cp:coreProperties>
</file>